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6.png" ContentType="image/png"/>
  <Override PartName="/ppt/media/camera.wav" ContentType="audio/x-wav"/>
  <Override PartName="/ppt/media/image26.jpeg" ContentType="image/jpeg"/>
  <Override PartName="/ppt/media/image1.png" ContentType="image/png"/>
  <Override PartName="/ppt/media/image25.jpeg" ContentType="image/jpeg"/>
  <Override PartName="/ppt/media/image3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142-2F3F-4D52-B46F-144CB4AA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D17-449D-437C-9571-12933E17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98B-7724-4090-94FE-9B236BCD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D46-155A-4702-8549-288430F4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25FC-F7C2-4461-81E2-8809EDC2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BBC5-E07B-4D4C-B54E-642A676E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5031-3F29-41F7-8A25-A252D6F7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ABC9-898B-4AC9-97A9-A1D6CE7B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37ED-7F5B-476E-8DA0-3EA1F706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7978-606A-4DBA-8ED6-0100AE71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52C5-F770-4598-851D-8D0E4DD3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9BA-E7A5-4716-A233-2059F74A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0823-60C0-4E1E-AEDA-BF564DD0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AE01-8B41-4538-B328-C33175C6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A9C9-C19E-46CC-B9A2-81828727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90D1-8E12-439E-B3D3-B7B6CDFB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7A70-2745-4A3B-91DF-AB2E865F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AE698-F0C3-4311-AAAF-F7650B51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A5E1F-1D1C-4907-A28C-AEC43C0E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CFD6E-6167-4ECC-A9A3-5644A9C9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D1265-3EF0-4B65-93F2-6F7EED96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12289-82A3-454B-B8FC-A323DED9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FB1D-D48E-4E78-B92F-01C53F61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2B200-0456-4229-9678-7961C9B5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D9E13-BA80-45D5-9BBE-07D6676A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BCF26-F28B-4763-AB6F-7E5B079C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7B9BD-5DC5-47E1-84F0-F8A24E5C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1C24D-2200-4956-9709-F52B66FF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56A19-7FE3-4B0C-AB92-2C2DA0B4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EA48D-536D-4D71-8C56-3BFDE70A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DC1E9-8EFE-40AC-980C-F1B9BCF2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89D41-3E67-4592-A954-5801F258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5103A-D05D-4636-87B9-44093B30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739-5132-4749-897F-17DA0943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CECE0-338C-4D91-8DDC-17CAAB69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45369-C3A8-4862-84EB-8314F910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07317-3C67-4FB2-9C20-2FE6764B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04714-69CD-4AD9-9DB2-906384DF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C8D87-4A8C-45AF-AEFC-42DF9E3A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EEE2A-FB24-4CAB-8F45-A1CFB39A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F1798-F0B9-417A-A042-D9223086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894A7-955F-44D7-9573-271AB817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57F2B-486F-4EE0-AC6F-46C0261D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12AD5-78B8-4544-9E30-DEDCD763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8AB-BDEF-43FD-A572-5517AE1F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D5240-0F4D-45AE-B279-CAC0FE5B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C8BDA-BD17-4A5E-9373-7306F2A3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9769D-882C-4F33-BA2E-56C23B3A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7B2D9-3B7A-48D5-A62C-15EFC101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89B9F-9353-4DE7-BBB2-481A9F95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DC428-F0B5-42AC-A809-11B3653D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5CC68-D597-41D6-A5E4-B0112F15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334B8-B6F6-42B2-A728-97A6220F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023C6-848D-4A84-9226-0FE60163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2880F-5671-4C5D-9A26-42AD2A5E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390-A193-4185-AE46-49C917B8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B1406-3B47-47C8-99D4-D8435CF0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38EF6-8C5C-4E54-B5E0-555CB23F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BD085-A06B-456E-8255-26DC80E4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98EDC-73EF-4962-BE3B-A140AB2D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1D836-2691-4521-BB04-9C3AC1C0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36EB1-04A2-4552-A50E-A56076C4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98617-4EF2-4F91-B5A7-AEDD9FA4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BF039-4C9B-4878-8938-23A38E0C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5F192-421C-4197-A42C-E64E7617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668FA-253C-426B-A470-E50E7C23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031-9D1B-4FDC-9578-6A514672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0C5A7-6A56-4AB8-B49A-FCD9DD18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6DC31-5930-4787-A8FB-313C7678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3978C-9A8D-4FDD-A27C-8C2D59AD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0E74D-5908-4F6D-91F7-9C4D015E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8DB58-917F-4A07-87B1-B69C3F9C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0AD4A-E023-40AB-A1AD-2FF2EAA9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C1708-CC9D-4B6E-9684-65235F78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EB1BA-C762-4171-B9B1-72E8B54A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07D21-C05B-41FC-8155-B02B7ED1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493A0-5AE6-4A05-A3A6-6B35FA0B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1AB-8408-4368-976B-2404E965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E91D3-927A-4764-B66F-D147EFD4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21414-2427-4213-96CF-36394BBE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5BEAD-261F-4BE6-8199-087606F7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4FC13-90FD-4E7A-833D-7E197E04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41CE1-DBBD-413A-ACED-0576C5ED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CF0-FA79-4537-85B0-A888535F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2ED1-B5DB-4E21-B8E0-03C056F7C27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B146-DC23-49B7-AC62-A3E97AC8DE20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C081-DA17-4F8A-94C5-B9CD820A626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D804-D78A-4B14-8C39-BBE4E6F7EACE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B6FD-BCD8-4DC5-A3A4-0CB28D87E39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3C18-4124-4BC3-BE14-F4DF1A8F8A95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D164-C47A-4DD3-8BF8-439209436C20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738080"/>
          </a:xfrm>
          <a:prstGeom prst="rect">
            <a:avLst/>
          </a:prstGeom>
          <a:ln w="0">
            <a:noFill/>
          </a:ln>
        </p:spPr>
      </p:pic>
      <p:pic>
        <p:nvPicPr>
          <p:cNvPr id="302" name="Content Placeholder 4" descr="oldproj1.jpg"/>
          <p:cNvPicPr/>
          <p:nvPr/>
        </p:nvPicPr>
        <p:blipFill>
          <a:blip r:embed="rId2"/>
          <a:stretch/>
        </p:blipFill>
        <p:spPr>
          <a:xfrm>
            <a:off x="1066680" y="2209680"/>
            <a:ext cx="6934320" cy="46483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3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In 1909, Albert Howell &amp; Donald Bell-First Camera- Made by cast aluminum, a four lens turret and a rack-over system, giving precise through- the –lens –viewing and focusing, It had a 400ft twin compartmen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31" name="Content Placeholder 5" descr="v25_sled_docked%20smaller.jpg"/>
          <p:cNvPicPr/>
          <p:nvPr/>
        </p:nvPicPr>
        <p:blipFill>
          <a:blip r:embed="rId2"/>
          <a:stretch/>
        </p:blipFill>
        <p:spPr>
          <a:xfrm>
            <a:off x="533520" y="3429000"/>
            <a:ext cx="2438280" cy="3276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chrpoche.jpg"/>
          <p:cNvPicPr/>
          <p:nvPr/>
        </p:nvPicPr>
        <p:blipFill>
          <a:blip r:embed="rId3"/>
          <a:stretch/>
        </p:blipFill>
        <p:spPr>
          <a:xfrm>
            <a:off x="3657600" y="1828800"/>
            <a:ext cx="2286000" cy="1839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darling.jpg"/>
          <p:cNvPicPr/>
          <p:nvPr/>
        </p:nvPicPr>
        <p:blipFill>
          <a:blip r:embed="rId4"/>
          <a:stretch/>
        </p:blipFill>
        <p:spPr>
          <a:xfrm>
            <a:off x="3124080" y="3809880"/>
            <a:ext cx="2438640" cy="2872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oldproj1.jpg"/>
          <p:cNvPicPr/>
          <p:nvPr/>
        </p:nvPicPr>
        <p:blipFill>
          <a:blip r:embed="rId5"/>
          <a:stretch/>
        </p:blipFill>
        <p:spPr>
          <a:xfrm>
            <a:off x="6172200" y="1905120"/>
            <a:ext cx="2286000" cy="2133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pathe28.jpg"/>
          <p:cNvPicPr/>
          <p:nvPr/>
        </p:nvPicPr>
        <p:blipFill>
          <a:blip r:embed="rId6"/>
          <a:stretch/>
        </p:blipFill>
        <p:spPr>
          <a:xfrm>
            <a:off x="609480" y="1600200"/>
            <a:ext cx="2590920" cy="1752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pathstud.jpg"/>
          <p:cNvPicPr/>
          <p:nvPr/>
        </p:nvPicPr>
        <p:blipFill>
          <a:blip r:embed="rId7"/>
          <a:stretch/>
        </p:blipFill>
        <p:spPr>
          <a:xfrm>
            <a:off x="5638680" y="4267080"/>
            <a:ext cx="3143520" cy="23306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8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ttp://www.duallcamera.com/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ttp://www.xs4all.nl/~wichm/pathstud.jp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ttp://www.cinematographers.nl/CAMERAS1.ht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b0f0"/>
                </a:solidFill>
                <a:uFillTx/>
                <a:latin typeface="Century Gothic"/>
              </a:rPr>
              <a:t>http://answers.ask.com/Entertainment/movies/what-was-the-first-movie-ever-mad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b0f0"/>
                </a:solidFill>
                <a:uFillTx/>
                <a:latin typeface="Century Gothic"/>
              </a:rPr>
              <a:t>http://wiki.answers.com/Q/when_was_the_movie_camera_invented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4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fd1"/>
                </a:solidFill>
                <a:latin typeface="Century Gothic"/>
              </a:rPr>
              <a:t>Who invented the first movie camera? </a:t>
            </a:r>
            <a:r>
              <a:rPr b="0" lang="en-US" sz="2000" spc="-1" strike="noStrike">
                <a:solidFill>
                  <a:srgbClr val="ff388c"/>
                </a:solidFill>
                <a:latin typeface="Century Gothic"/>
              </a:rPr>
              <a:t>A guy by the last name Lumiere invented the first filming movie camera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fd1"/>
                </a:solidFill>
                <a:latin typeface="Century Gothic"/>
              </a:rPr>
              <a:t>What was the first movie ever created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88c"/>
                </a:solidFill>
                <a:latin typeface="Century Gothic"/>
              </a:rPr>
              <a:t>“ </a:t>
            </a:r>
            <a:r>
              <a:rPr b="0" lang="en-US" sz="2000" spc="-1" strike="noStrike">
                <a:solidFill>
                  <a:srgbClr val="ff388c"/>
                </a:solidFill>
                <a:latin typeface="Century Gothic"/>
              </a:rPr>
              <a:t>The Horse In Motion” by Eadweard Muybridg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fd1"/>
                </a:solidFill>
                <a:latin typeface="Century Gothic"/>
              </a:rPr>
              <a:t>When was the first movie camera invented? </a:t>
            </a:r>
            <a:r>
              <a:rPr b="0" lang="en-US" sz="2000" spc="-1" strike="noStrike">
                <a:solidFill>
                  <a:srgbClr val="ff388c"/>
                </a:solidFill>
                <a:latin typeface="Century Gothic"/>
              </a:rPr>
              <a:t>In the year 1888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fd1"/>
                </a:solidFill>
                <a:latin typeface="Century Gothic"/>
              </a:rPr>
              <a:t>How did the movie camera look? </a:t>
            </a:r>
            <a:r>
              <a:rPr b="0" lang="en-US" sz="2000" spc="-1" strike="noStrike">
                <a:solidFill>
                  <a:srgbClr val="ff5698"/>
                </a:solidFill>
                <a:latin typeface="Century Gothic"/>
              </a:rPr>
              <a:t>portable movie camera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irst Permanent Photograph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s photograph helped to shape the first motion picture movie camera by Lumier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38088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irst movie ever made was by Eadweard Muybridges entitled “The Horse In Motion”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s movie was created by a series of photographs placed togeth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3" descr="220px-Muybridge_Buffalo_galloping.gif"/>
          <p:cNvPicPr/>
          <p:nvPr/>
        </p:nvPicPr>
        <p:blipFill>
          <a:blip r:embed="rId2"/>
          <a:stretch/>
        </p:blipFill>
        <p:spPr>
          <a:xfrm>
            <a:off x="596880" y="4565520"/>
            <a:ext cx="2994120" cy="1841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220px-Muybridge_race_horse_animated.gif"/>
          <p:cNvPicPr/>
          <p:nvPr/>
        </p:nvPicPr>
        <p:blipFill>
          <a:blip r:embed="rId3">
            <a:grayscl/>
          </a:blip>
          <a:stretch/>
        </p:blipFill>
        <p:spPr>
          <a:xfrm>
            <a:off x="4648320" y="4419720"/>
            <a:ext cx="32353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In The Year 1888, the first movie camera was invented! (film only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t was invented ,technically by many, but   Lumiere invented the first portable movie camera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December 21, 1893, a piece of technology that could film* and* project*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wheel spokes="1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16" name="Content Placeholder 3" descr="movie-cameras-t9615.jpg"/>
          <p:cNvPicPr/>
          <p:nvPr/>
        </p:nvPicPr>
        <p:blipFill>
          <a:blip r:embed="rId2"/>
          <a:stretch/>
        </p:blipFill>
        <p:spPr>
          <a:xfrm>
            <a:off x="762120" y="1295280"/>
            <a:ext cx="4265640" cy="3559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C:\Documents and Settings\student\Local Settings\Temporary Internet Files\Content.IE5\YYWCRVEH\MC900012931[1].wmf"/>
          <p:cNvPicPr/>
          <p:nvPr/>
        </p:nvPicPr>
        <p:blipFill>
          <a:blip r:embed="rId3"/>
          <a:stretch/>
        </p:blipFill>
        <p:spPr>
          <a:xfrm>
            <a:off x="5562720" y="4572000"/>
            <a:ext cx="3124080" cy="1854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C:\Documents and Settings\student\Local Settings\Temporary Internet Files\Content.IE5\LE6A1KI1\MC900434799[1].png"/>
          <p:cNvPicPr/>
          <p:nvPr/>
        </p:nvPicPr>
        <p:blipFill>
          <a:blip r:embed="rId4"/>
          <a:stretch/>
        </p:blipFill>
        <p:spPr>
          <a:xfrm>
            <a:off x="3429000" y="4876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C:\Documents and Settings\student\Local Settings\Temporary Internet Files\Content.IE5\N08N8BQD\MP900404910[1].jpg"/>
          <p:cNvPicPr/>
          <p:nvPr/>
        </p:nvPicPr>
        <p:blipFill>
          <a:blip r:embed="rId5"/>
          <a:stretch/>
        </p:blipFill>
        <p:spPr>
          <a:xfrm>
            <a:off x="380880" y="4952880"/>
            <a:ext cx="2743200" cy="17528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C:\Documents and Settings\student\Local Settings\Temporary Internet Files\Content.IE5\IW7E8QN5\MC900331651[1].wmf"/>
          <p:cNvPicPr/>
          <p:nvPr/>
        </p:nvPicPr>
        <p:blipFill>
          <a:blip r:embed="rId6"/>
          <a:stretch/>
        </p:blipFill>
        <p:spPr>
          <a:xfrm>
            <a:off x="6705720" y="380880"/>
            <a:ext cx="1904760" cy="3784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C:\Documents and Settings\student\Local Settings\Temporary Internet Files\Content.IE5\BZVWRPDG\MC900232378[1].wmf"/>
          <p:cNvPicPr/>
          <p:nvPr/>
        </p:nvPicPr>
        <p:blipFill>
          <a:blip r:embed="rId7"/>
          <a:stretch/>
        </p:blipFill>
        <p:spPr>
          <a:xfrm>
            <a:off x="5105520" y="1752480"/>
            <a:ext cx="161280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February 1895, a movie camera that combined a camera, projector and print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Charles Pathe thought to make a camera with both a projector and Kinetoscope!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Picture 3" descr="pathe28.jpg"/>
          <p:cNvPicPr/>
          <p:nvPr/>
        </p:nvPicPr>
        <p:blipFill>
          <a:blip r:embed="rId2"/>
          <a:stretch/>
        </p:blipFill>
        <p:spPr>
          <a:xfrm>
            <a:off x="1981080" y="3446640"/>
            <a:ext cx="3581640" cy="3259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In 1908 – Joseph Debrie-“LeParvo”-Newton Finder Eye Piece, rear of the camera featured a footage counter dial marked in feet, a cranking speed indicator marked by 16fps and 24 fps, and side panels were hinged to reveal a very impressive movement and two 400 feet co-axil metal film, there was an  eye piece with a diopter adjustment and an eye piece-trap cover, on the rear panel was a spirit level to level tripod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7" name="Picture 3" descr="parvo.jpg"/>
          <p:cNvPicPr/>
          <p:nvPr/>
        </p:nvPicPr>
        <p:blipFill>
          <a:blip r:embed="rId2"/>
          <a:stretch/>
        </p:blipFill>
        <p:spPr>
          <a:xfrm>
            <a:off x="4419720" y="3581280"/>
            <a:ext cx="216540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9:53:48Z</dcterms:created>
  <dc:creator>student</dc:creator>
  <dc:description/>
  <dc:language>en-US</dc:language>
  <cp:lastModifiedBy>student</cp:lastModifiedBy>
  <dcterms:modified xsi:type="dcterms:W3CDTF">2010-09-23T19:26:01Z</dcterms:modified>
  <cp:revision>12</cp:revision>
  <dc:subject/>
  <dc:title>The Fresh Timeline of a Great Invention The Movie Camera By:Debra Simms</dc:title>
</cp:coreProperties>
</file>